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04880"/>
        <c:axId val="84574867"/>
      </c:barChart>
      <c:catAx>
        <c:axId val="316048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74867"/>
        <c:crosses val="autoZero"/>
        <c:auto val="1"/>
        <c:lblAlgn val="ctr"/>
        <c:lblOffset val="100"/>
        <c:noMultiLvlLbl val="0"/>
      </c:catAx>
      <c:valAx>
        <c:axId val="84574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048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270-CF59-4CD2-9866-C4785C32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6FBA-051C-44F5-9C66-673D33E5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AD1-B700-429A-9ABB-5F4003CA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5E4-9D96-4090-8B5C-C57793D2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319-CE2A-4894-8B79-B121D76E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737-89C2-40D0-97C0-2F7986FF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85A5-6B8D-4C67-B823-5FBC8D1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E72-4399-4F50-BF5B-BF8C9ECA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C63-1F58-4BCF-831E-F428AABA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807-E878-4E56-A322-7C4D263C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627-EAB8-4436-8503-9B82A9DE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2C2B-7FB3-4C4C-9E95-B1958BE0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67320-517A-4F05-A824-970CC5AD7B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