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01034"/>
        <c:axId val="21179977"/>
      </c:barChart>
      <c:catAx>
        <c:axId val="80601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9977"/>
        <c:crosses val="autoZero"/>
        <c:auto val="1"/>
        <c:lblAlgn val="ctr"/>
        <c:lblOffset val="100"/>
        <c:noMultiLvlLbl val="0"/>
      </c:catAx>
      <c:valAx>
        <c:axId val="21179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1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E43-2953-49C3-A9E2-70F2DF04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88D-4D1C-42D0-9688-33ED0C91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A3E-882E-4E6B-98EB-D2F398F3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A18-247E-4C3D-A6CE-85A62759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C93-2668-48E7-9438-BE92B82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7E5-B9FD-495E-8C1E-DB7D384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910-62B3-4171-9642-8E924D50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1EE-3853-4166-8439-0EA4645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37E-8E50-435E-9092-21AFDF6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1BE-3032-4E72-A8FC-EDD9444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EEB-0CBA-4D32-800B-54CBFD8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882-7C8A-405F-8238-0F8857B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FC772-EF91-478B-B17B-E9FAE38BE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